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move the slide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1D18-5777-49B5-87B6-FB4A2AFEE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Kids:  Assessing Your Children’s Ministry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 is a matrix for you to use.  Each of the eight principles is based on a chapter in this book by Larry Fowler.  Each is listed, followed by four suggestions from the corresponding chapter as to how it might be accomplished in your church.  A blank line is included for you to add your own suggestions.  A rating scale is on the left.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Here’s how to use it: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Use the scale for a pretest with your children’s workers.  See how they rate your ministry right now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Self-test once every six months.  Track your progres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Humanst521 BT"/>
              </a:rPr>
              <a:t>Finally, use it as a tool for peer evaluation when you ask another church to come give you its perspective on how you are doing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A442-B417-4CD3-8133-2FD0D932C87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Standards Scoring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B86B-443C-49E4-AA65-71774C10FC4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1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40"/>
                </a:solidFill>
                <a:latin typeface="Humanst521 BT"/>
              </a:rPr>
              <a:t>Ministering to children is a high prior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urch budgeting reflects a priority on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Facility use and conditions reflect the importance of children’s ministr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ale:  1—Always true; 2—Trus most of the time; 3—Sometimes true; 4—Rarely true; 5—Never true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E78CC-26EC-4BA4-8ADE-34AE99CFB66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2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The responsibility for children’s ministry first belongs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 4  5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9F137-82AE-4A4B-A6C5-05BBAB801E9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3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cripture is the foundation of our content; relevance follow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criptural content is the primary criteria in choosing curricula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high value they place o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Learning Biblical truth is the foundational objective for all ag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Relevance to life is the basis for the application of Bible tru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6210C-3F55-47CD-A6C1-8C3220B77190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4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Spiritual training of children is the core lifestyle of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Parents receive regular, specific training on how to integrate God’s Word into their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      Materials for the home are promoted and made available to par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Scripture memorization is a regular discipline encouraged in children’s ministry and in the hom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58E4C-3330-43E7-ABAA-FE540375AE5F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5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Every child feels safe and loved at all tim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’s ministry workers are trained to build and maintain a healthy, proper relationship with student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 protection policies and procedures are defined and implemented consistentl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lnSpc>
                <a:spcPct val="2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F784A-2C60-4ABD-9EA2-69CF9A2BDD14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6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serve God as soon as they are read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Opportunities abound for children to serve God in the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 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B6126-3832-423E-8AD1-ED963FAEBDCD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7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’s workers communicate the gospel with clarity and urgency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Children regularly hear the gospel message and are allowed to respond as the Holy Spirit prompts them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     Invitation methods do not confuse the child or muddle the message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ECA45-3986-4C3C-9FFA-58D991208A42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Rock-Solid Principle 8  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Children have regular opportunities to trust in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Evangelism of children is a priority of the church leadership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own children to Christ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1  2  3  4  5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Humanst521 BT"/>
              </a:rPr>
              <a:t>    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C446-3872-4C94-8666-712EEFC038BE}" type="slidenum">
              <a:rPr b="0" lang="en-US" sz="1200" spc="-1" strike="noStrike">
                <a:solidFill>
                  <a:srgbClr val="000000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27355-376C-40BF-AB0D-6E0700BA68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6432B-6E1B-432A-AED5-7F0DAA8C3A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FF801-8490-4E70-B04B-F3A89F3C45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E1DE6-36EF-45AE-9AB9-BC65FF5DE7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B82F1-630F-40B7-954B-891CCBA92E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53260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759920" y="247644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53260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4759920" y="4321800"/>
            <a:ext cx="212112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AA989-4CEE-415D-89AF-A299BEBBFE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83B0F-4618-450D-9579-79EE548BB6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C890C-654E-42D9-8E09-2E519055B9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960" y="75960"/>
            <a:ext cx="701028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4A601-3CEC-48F7-A012-AD6CD389E2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A0466-EAAB-459C-B7D4-B9EFA532C5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681000" y="432180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A5B0DE-1796-4656-8EBE-4630D69C70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681000" y="2476440"/>
            <a:ext cx="32148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4321800"/>
            <a:ext cx="6588000" cy="16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E1BDA7-1623-43ED-89F5-5A6FB27FC7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GraphicsFinal8"/>
          <p:cNvPicPr/>
          <p:nvPr/>
        </p:nvPicPr>
        <p:blipFill>
          <a:blip r:embed="rId2"/>
          <a:stretch/>
        </p:blipFill>
        <p:spPr>
          <a:xfrm>
            <a:off x="0" y="0"/>
            <a:ext cx="9144000" cy="2062080"/>
          </a:xfrm>
          <a:prstGeom prst="rect">
            <a:avLst/>
          </a:prstGeom>
          <a:ln w="0">
            <a:noFill/>
          </a:ln>
        </p:spPr>
      </p:pic>
      <p:sp>
        <p:nvSpPr>
          <p:cNvPr id="1" name="Rectangle 8"/>
          <p:cNvSpPr/>
          <p:nvPr/>
        </p:nvSpPr>
        <p:spPr>
          <a:xfrm>
            <a:off x="0" y="5467320"/>
            <a:ext cx="9144000" cy="1390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fafd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3064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Module 8-</a:t>
            </a:r>
            <a:fld id="{CB1D3F96-E314-4A32-B248-96FD803F4E21}" type="slidenum"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10"/>
          <p:cNvSpPr/>
          <p:nvPr/>
        </p:nvSpPr>
        <p:spPr>
          <a:xfrm>
            <a:off x="0" y="6600960"/>
            <a:ext cx="135720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</a:rPr>
              <a:t>®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055"/>
          <p:cNvSpPr/>
          <p:nvPr/>
        </p:nvSpPr>
        <p:spPr>
          <a:xfrm>
            <a:off x="0" y="6600960"/>
            <a:ext cx="2895480" cy="2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Created by Awana</a:t>
            </a:r>
            <a:r>
              <a:rPr b="0" lang="en-US" sz="1000" spc="-1" strike="noStrike" baseline="30000">
                <a:solidFill>
                  <a:srgbClr val="ffffff"/>
                </a:solidFill>
                <a:latin typeface="Humanst521 BT"/>
                <a:ea typeface="Tahoma"/>
              </a:rPr>
              <a:t>®</a:t>
            </a:r>
            <a:r>
              <a:rPr b="0" lang="en-US" sz="1000" spc="-1" strike="noStrike">
                <a:solidFill>
                  <a:srgbClr val="ffffff"/>
                </a:solidFill>
                <a:latin typeface="Humanst521 BT"/>
              </a:rPr>
              <a:t>.  All rights reserved.</a:t>
            </a:r>
            <a:endParaRPr b="0" lang="en-US" sz="10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4920" y="2476440"/>
            <a:ext cx="6588000" cy="35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Humanst521 B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anst521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41840" y="4354560"/>
            <a:ext cx="5402160" cy="13032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Assessing Your</a:t>
            </a:r>
            <a:br>
              <a:rPr sz="3800"/>
            </a:br>
            <a:r>
              <a:rPr b="1" lang="en-US" sz="3800" spc="-1" strike="noStrike">
                <a:solidFill>
                  <a:srgbClr val="cc0000"/>
                </a:solidFill>
                <a:latin typeface="Humanst521 BT"/>
              </a:rPr>
              <a:t>Children’s Ministry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478C8849-8594-4B96-8C14-411D5485915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Humanst521 BT"/>
              </a:rPr>
              <a:t>Rock-Solid Standards Scoring</a:t>
            </a:r>
            <a:endParaRPr b="1" lang="en-US" sz="3400" spc="-1" strike="noStrike">
              <a:solidFill>
                <a:srgbClr val="ffffff"/>
              </a:solidFill>
              <a:latin typeface="Humanst521 BT"/>
            </a:endParaRPr>
          </a:p>
        </p:txBody>
      </p:sp>
      <p:graphicFrame>
        <p:nvGraphicFramePr>
          <p:cNvPr id="211" name="Object 4"/>
          <p:cNvGraphicFramePr/>
          <p:nvPr/>
        </p:nvGraphicFramePr>
        <p:xfrm>
          <a:off x="-1054080" y="1488960"/>
          <a:ext cx="10607760" cy="568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054080" y="1488960"/>
                    <a:ext cx="10607760" cy="568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lide Number Placeholder 4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2137A72A-C460-462D-AD97-95AF22EF204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AE90E36B-891F-4B8B-A88A-2EEF244B25F5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0" name="Rectangle 80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acility use and conditions reflect the importance of 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1" name="Rectangle 108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is included in church objectiv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2" name="Rectangle 109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leadership enjoys a “peer status” with the leaders of other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3" name="Rectangle 110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9000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budgeting reflects a priority o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1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Ministering to children is a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high priorit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6" name="Text Box 10"/>
          <p:cNvSpPr/>
          <p:nvPr/>
        </p:nvSpPr>
        <p:spPr>
          <a:xfrm>
            <a:off x="0" y="2405160"/>
            <a:ext cx="1924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7" name="Text Box 64"/>
          <p:cNvSpPr/>
          <p:nvPr/>
        </p:nvSpPr>
        <p:spPr>
          <a:xfrm>
            <a:off x="0" y="335124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8" name="Text Box 73"/>
          <p:cNvSpPr/>
          <p:nvPr/>
        </p:nvSpPr>
        <p:spPr>
          <a:xfrm>
            <a:off x="0" y="4280040"/>
            <a:ext cx="1790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99" name="Text Box 81"/>
          <p:cNvSpPr/>
          <p:nvPr/>
        </p:nvSpPr>
        <p:spPr>
          <a:xfrm>
            <a:off x="0" y="5132520"/>
            <a:ext cx="19432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00" name="Group 102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01" name="Group 98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02" name="Group 99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03" name="Group 10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F6A75CE8-7F83-491A-A0F0-338A2E61A54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-3240" y="5029200"/>
            <a:ext cx="9144000" cy="10206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majority of parents in the church place a high priority on the spiritual training of their own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0" y="2179800"/>
            <a:ext cx="9144000" cy="9554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dults are regularly encouraged and equipped to relate what they are learning to their children at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-3240" y="3200400"/>
            <a:ext cx="9144000" cy="84312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deliberately act to involve parents in their child’s spiritual educatio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0" y="4084560"/>
            <a:ext cx="9144000" cy="86832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understand and take ownership of what their children are learning in the children’s ministr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2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The responsibility for children’s ministry first belongs to parent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9400" y="331308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14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1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1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1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1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2A6FAF2C-0BE5-4B4A-874A-0E392779405A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0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Relevance to life is the basis for the application of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Bible tru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al content is the primary criteria in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oosing curricula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onsistently demonstrate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high value they place o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3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Learning Biblical truth is the foundational objectiv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for all ag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3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cripture is the foundation of our content; relevance follows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29" name="Text Box 29"/>
          <p:cNvSpPr/>
          <p:nvPr/>
        </p:nvSpPr>
        <p:spPr>
          <a:xfrm>
            <a:off x="149400" y="5132520"/>
            <a:ext cx="1736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3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3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3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33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CED48966-0B93-441D-A680-0B4FA1B267C9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5" name="Rectangle 2"/>
          <p:cNvSpPr/>
          <p:nvPr/>
        </p:nvSpPr>
        <p:spPr>
          <a:xfrm>
            <a:off x="-3240" y="5141880"/>
            <a:ext cx="9144000" cy="8175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cripture memorization is a regular discipline encouraged in children’s ministry and in the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 majority of parents regularly teach their children God’s Word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regular, specific training on how to integrate God’s Word into their hom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0" y="4226040"/>
            <a:ext cx="9144000" cy="72684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Materials for the home are promoted and made available to par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4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4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Spiritual training of children is the core lifestyle of the home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2" name="Text Box 15"/>
          <p:cNvSpPr/>
          <p:nvPr/>
        </p:nvSpPr>
        <p:spPr>
          <a:xfrm>
            <a:off x="149400" y="3313080"/>
            <a:ext cx="1717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3" name="Text Box 22"/>
          <p:cNvSpPr/>
          <p:nvPr/>
        </p:nvSpPr>
        <p:spPr>
          <a:xfrm>
            <a:off x="152280" y="422280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44" name="Text Box 29"/>
          <p:cNvSpPr/>
          <p:nvPr/>
        </p:nvSpPr>
        <p:spPr>
          <a:xfrm>
            <a:off x="149400" y="5132520"/>
            <a:ext cx="1774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4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4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4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48" name="Group 30"/>
          <p:cNvGrpSpPr/>
          <p:nvPr/>
        </p:nvGrpSpPr>
        <p:grpSpPr>
          <a:xfrm>
            <a:off x="344520" y="5532480"/>
            <a:ext cx="1387440" cy="317520"/>
            <a:chOff x="34452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B9D2B5FB-698B-4ECD-967D-C7DE7FEA6F4D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0" name="Rectangle 2"/>
          <p:cNvSpPr/>
          <p:nvPr/>
        </p:nvSpPr>
        <p:spPr>
          <a:xfrm>
            <a:off x="-3240" y="5197320"/>
            <a:ext cx="9144000" cy="86868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are trained in how to discipline their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0" y="2149560"/>
            <a:ext cx="9144000" cy="98568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ildren’s ministries have a consistent, positive, and well-communicated system of disciplin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-3240" y="3230640"/>
            <a:ext cx="9144000" cy="10206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ministry workers are trained to build and maintain a healthy, proper relationship with student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3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 protection policies and procedures are defined and implemented consistentl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5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5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Every child feels safe and loved at </a:t>
            </a:r>
            <a:br>
              <a:rPr sz="2800"/>
            </a:b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all times.</a:t>
            </a:r>
            <a:r>
              <a:rPr b="1" lang="en-US" sz="2400" spc="-1" strike="noStrike">
                <a:solidFill>
                  <a:srgbClr val="808000"/>
                </a:solidFill>
                <a:latin typeface="Humanst521 B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6" name="Text Box 8"/>
          <p:cNvSpPr/>
          <p:nvPr/>
        </p:nvSpPr>
        <p:spPr>
          <a:xfrm>
            <a:off x="152280" y="2405160"/>
            <a:ext cx="1752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8" name="Text Box 22"/>
          <p:cNvSpPr/>
          <p:nvPr/>
        </p:nvSpPr>
        <p:spPr>
          <a:xfrm>
            <a:off x="212760" y="4344840"/>
            <a:ext cx="17114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149400" y="5132520"/>
            <a:ext cx="1850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60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6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62" name="Group 23"/>
          <p:cNvGrpSpPr/>
          <p:nvPr/>
        </p:nvGrpSpPr>
        <p:grpSpPr>
          <a:xfrm>
            <a:off x="271440" y="4718160"/>
            <a:ext cx="1387440" cy="317520"/>
            <a:chOff x="271440" y="4718160"/>
            <a:chExt cx="1387440" cy="317520"/>
          </a:xfrm>
        </p:grpSpPr>
      </p:grpSp>
      <p:grpSp>
        <p:nvGrpSpPr>
          <p:cNvPr id="163" name="Group 30"/>
          <p:cNvGrpSpPr/>
          <p:nvPr/>
        </p:nvGrpSpPr>
        <p:grpSpPr>
          <a:xfrm>
            <a:off x="268200" y="5570640"/>
            <a:ext cx="1387440" cy="317520"/>
            <a:chOff x="268200" y="557064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2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EE90BC75-21E6-461D-B29C-F00F2B6C6AE8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-3240" y="5165640"/>
            <a:ext cx="9144000" cy="83844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ervice opportunities help children to feel they are a vital part of the local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6" name="Rectangle 3"/>
          <p:cNvSpPr/>
          <p:nvPr/>
        </p:nvSpPr>
        <p:spPr>
          <a:xfrm>
            <a:off x="0" y="2239920"/>
            <a:ext cx="9144000" cy="89532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pportunities abound for children to serve God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 the churc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-3240" y="3200400"/>
            <a:ext cx="9144000" cy="106668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Standards (including salvation) for serving are made clear before children are offered the opportunity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0" y="4343400"/>
            <a:ext cx="9144000" cy="77796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ceive training and close adult guidance for their ministry activities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6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7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serve God as soon as they are read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152280" y="2405160"/>
            <a:ext cx="17910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149400" y="3313080"/>
            <a:ext cx="1831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3" name="Text Box 22"/>
          <p:cNvSpPr/>
          <p:nvPr/>
        </p:nvSpPr>
        <p:spPr>
          <a:xfrm>
            <a:off x="182520" y="4344840"/>
            <a:ext cx="1817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74" name="Text Box 29"/>
          <p:cNvSpPr/>
          <p:nvPr/>
        </p:nvSpPr>
        <p:spPr>
          <a:xfrm>
            <a:off x="149400" y="5132520"/>
            <a:ext cx="181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7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17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77" name="Group 23"/>
          <p:cNvGrpSpPr/>
          <p:nvPr/>
        </p:nvGrpSpPr>
        <p:grpSpPr>
          <a:xfrm>
            <a:off x="271440" y="4699080"/>
            <a:ext cx="1387440" cy="363240"/>
            <a:chOff x="271440" y="4699080"/>
            <a:chExt cx="1387440" cy="363240"/>
          </a:xfrm>
        </p:grpSpPr>
      </p:grpSp>
      <p:grpSp>
        <p:nvGrpSpPr>
          <p:cNvPr id="17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2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D0EECADD-37DC-4EEE-9212-2D016F66A09E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0" name="Rectangle 2"/>
          <p:cNvSpPr/>
          <p:nvPr/>
        </p:nvSpPr>
        <p:spPr>
          <a:xfrm>
            <a:off x="0" y="5276880"/>
            <a:ext cx="9144000" cy="85896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Invitation methods do not confuse the child or muddle the message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1" name="Rectangle 3"/>
          <p:cNvSpPr/>
          <p:nvPr/>
        </p:nvSpPr>
        <p:spPr>
          <a:xfrm>
            <a:off x="0" y="2274840"/>
            <a:ext cx="9144000" cy="7272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are trained in how to present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gospel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2" name="Rectangle 4"/>
          <p:cNvSpPr/>
          <p:nvPr/>
        </p:nvSpPr>
        <p:spPr>
          <a:xfrm>
            <a:off x="-3240" y="3124080"/>
            <a:ext cx="9147240" cy="10098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’s workers can express the gospel message and how children are to respond with saving faith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3" name="Rectangle 5"/>
          <p:cNvSpPr/>
          <p:nvPr/>
        </p:nvSpPr>
        <p:spPr>
          <a:xfrm>
            <a:off x="0" y="4210200"/>
            <a:ext cx="9144000" cy="97128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ildren regularly hear the gospel message and are allowed to respond as the Holy Spirit prompts them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7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185" name="Text Box 7"/>
          <p:cNvSpPr/>
          <p:nvPr/>
        </p:nvSpPr>
        <p:spPr>
          <a:xfrm>
            <a:off x="219240" y="1122480"/>
            <a:ext cx="5843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’s workers communicate the gospel with clarity and urgency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6" name="Text Box 8"/>
          <p:cNvSpPr/>
          <p:nvPr/>
        </p:nvSpPr>
        <p:spPr>
          <a:xfrm>
            <a:off x="0" y="2343240"/>
            <a:ext cx="189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8" name="Text Box 22"/>
          <p:cNvSpPr/>
          <p:nvPr/>
        </p:nvSpPr>
        <p:spPr>
          <a:xfrm>
            <a:off x="152280" y="4222800"/>
            <a:ext cx="1714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680" y="5322960"/>
            <a:ext cx="1714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190" name="Group 9"/>
          <p:cNvGrpSpPr/>
          <p:nvPr/>
        </p:nvGrpSpPr>
        <p:grpSpPr>
          <a:xfrm>
            <a:off x="290520" y="2709720"/>
            <a:ext cx="1387440" cy="317520"/>
            <a:chOff x="290520" y="2709720"/>
            <a:chExt cx="1387440" cy="317520"/>
          </a:xfrm>
        </p:grpSpPr>
      </p:grpSp>
      <p:grpSp>
        <p:nvGrpSpPr>
          <p:cNvPr id="191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192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193" name="Group 30"/>
          <p:cNvGrpSpPr/>
          <p:nvPr/>
        </p:nvGrpSpPr>
        <p:grpSpPr>
          <a:xfrm>
            <a:off x="344520" y="5684760"/>
            <a:ext cx="1387440" cy="317520"/>
            <a:chOff x="344520" y="568476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3"/>
          <p:cNvSpPr/>
          <p:nvPr/>
        </p:nvSpPr>
        <p:spPr>
          <a:xfrm>
            <a:off x="6831000" y="6580080"/>
            <a:ext cx="23130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1" lang="en-US" sz="1200" spc="-1" strike="noStrike">
                <a:solidFill>
                  <a:srgbClr val="ffffff"/>
                </a:solidFill>
                <a:latin typeface="Humanst521 BT"/>
              </a:rPr>
              <a:t>Rock-Solid Kids</a:t>
            </a:r>
            <a:r>
              <a:rPr b="0" lang="en-US" sz="1200" spc="-1" strike="noStrike">
                <a:solidFill>
                  <a:srgbClr val="ffffff"/>
                </a:solidFill>
                <a:latin typeface="Humanst521 BT"/>
              </a:rPr>
              <a:t> </a:t>
            </a:r>
            <a:r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Module 8-</a:t>
            </a:r>
            <a:fld id="{CEE2FF81-0431-451A-A9B0-4D2945029091}" type="slidenum">
              <a:rPr b="0" i="1" lang="en-US" sz="1200" spc="-1" strike="noStrike">
                <a:solidFill>
                  <a:srgbClr val="ffffff"/>
                </a:solidFill>
                <a:latin typeface="Humanst521 B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5" name="Rectangle 2"/>
          <p:cNvSpPr/>
          <p:nvPr/>
        </p:nvSpPr>
        <p:spPr>
          <a:xfrm>
            <a:off x="-3240" y="5141880"/>
            <a:ext cx="9144000" cy="727200"/>
          </a:xfrm>
          <a:prstGeom prst="rect">
            <a:avLst/>
          </a:prstGeom>
          <a:solidFill>
            <a:srgbClr val="000040"/>
          </a:solidFill>
          <a:ln w="0">
            <a:noFill/>
          </a:ln>
          <a:effectLst>
            <a:outerShdw dist="17819" dir="2700000" blurRad="0" rotWithShape="0">
              <a:srgbClr val="0000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The church sees much fruit in children trusting Christ as their Savior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6" name="Rectangle 3"/>
          <p:cNvSpPr/>
          <p:nvPr/>
        </p:nvSpPr>
        <p:spPr>
          <a:xfrm>
            <a:off x="0" y="2408400"/>
            <a:ext cx="9144000" cy="72684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d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Evangelism of children is a priority of the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church leadership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-3240" y="3316320"/>
            <a:ext cx="9144000" cy="727200"/>
          </a:xfrm>
          <a:prstGeom prst="rect">
            <a:avLst/>
          </a:prstGeom>
          <a:solidFill>
            <a:srgbClr val="004040"/>
          </a:solidFill>
          <a:ln w="0">
            <a:noFill/>
          </a:ln>
          <a:effectLst>
            <a:outerShdw dist="17819" dir="2700000" blurRad="0" rotWithShape="0">
              <a:srgbClr val="00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Parents receive training about how to lead their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own children to Christ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8" name="Rectangle 5"/>
          <p:cNvSpPr/>
          <p:nvPr/>
        </p:nvSpPr>
        <p:spPr>
          <a:xfrm>
            <a:off x="0" y="4130640"/>
            <a:ext cx="9144000" cy="914400"/>
          </a:xfrm>
          <a:prstGeom prst="rect">
            <a:avLst/>
          </a:prstGeom>
          <a:solidFill>
            <a:srgbClr val="804040"/>
          </a:solidFill>
          <a:ln w="0">
            <a:noFill/>
          </a:ln>
          <a:effectLst>
            <a:outerShdw dist="17819" dir="2700000" blurRad="0" rotWithShape="0">
              <a:srgbClr val="4d26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371600" rIns="274320" tIns="46800" bIns="46800" anchor="ctr">
            <a:noAutofit/>
          </a:bodyPr>
          <a:p>
            <a:pPr marL="685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Allocation of church resources reflects a recognition of the fruitfulness of evangelizing children.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5960" y="75960"/>
            <a:ext cx="701028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Humanst521 BT"/>
              </a:rPr>
              <a:t>Rock-Solid Principle 8:</a:t>
            </a:r>
            <a:endParaRPr b="1" lang="en-US" sz="3800" spc="-1" strike="noStrike">
              <a:solidFill>
                <a:srgbClr val="ffffff"/>
              </a:solidFill>
              <a:latin typeface="Humanst521 BT"/>
            </a:endParaRPr>
          </a:p>
        </p:txBody>
      </p:sp>
      <p:sp>
        <p:nvSpPr>
          <p:cNvPr id="200" name="Text Box 7"/>
          <p:cNvSpPr/>
          <p:nvPr/>
        </p:nvSpPr>
        <p:spPr>
          <a:xfrm>
            <a:off x="219240" y="1122480"/>
            <a:ext cx="5843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40"/>
                </a:solidFill>
                <a:latin typeface="Humanst521 BT"/>
              </a:rPr>
              <a:t>Children have regular opportunities to trust in Christ.</a:t>
            </a:r>
            <a:endParaRPr b="0" lang="en-US" sz="28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1" name="Text Box 8"/>
          <p:cNvSpPr/>
          <p:nvPr/>
        </p:nvSpPr>
        <p:spPr>
          <a:xfrm>
            <a:off x="152280" y="2405160"/>
            <a:ext cx="1771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2" name="Text Box 15"/>
          <p:cNvSpPr/>
          <p:nvPr/>
        </p:nvSpPr>
        <p:spPr>
          <a:xfrm>
            <a:off x="149400" y="3313080"/>
            <a:ext cx="1755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152280" y="4222800"/>
            <a:ext cx="173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sp>
        <p:nvSpPr>
          <p:cNvPr id="204" name="Text Box 29"/>
          <p:cNvSpPr/>
          <p:nvPr/>
        </p:nvSpPr>
        <p:spPr>
          <a:xfrm>
            <a:off x="149400" y="5132520"/>
            <a:ext cx="17938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Humanst521 BT"/>
              </a:rPr>
              <a:t>1  2  3  4  5</a:t>
            </a:r>
            <a:endParaRPr b="0" lang="en-US" sz="2400" spc="-1" strike="noStrike">
              <a:solidFill>
                <a:srgbClr val="000000"/>
              </a:solidFill>
              <a:latin typeface="Humanst521 BT"/>
            </a:endParaRPr>
          </a:p>
        </p:txBody>
      </p:sp>
      <p:grpSp>
        <p:nvGrpSpPr>
          <p:cNvPr id="205" name="Group 9"/>
          <p:cNvGrpSpPr/>
          <p:nvPr/>
        </p:nvGrpSpPr>
        <p:grpSpPr>
          <a:xfrm>
            <a:off x="271440" y="2805120"/>
            <a:ext cx="1387440" cy="317520"/>
            <a:chOff x="271440" y="2805120"/>
            <a:chExt cx="1387440" cy="317520"/>
          </a:xfrm>
        </p:grpSpPr>
      </p:grpSp>
      <p:grpSp>
        <p:nvGrpSpPr>
          <p:cNvPr id="206" name="Group 16"/>
          <p:cNvGrpSpPr/>
          <p:nvPr/>
        </p:nvGrpSpPr>
        <p:grpSpPr>
          <a:xfrm>
            <a:off x="268200" y="3713040"/>
            <a:ext cx="1387440" cy="317520"/>
            <a:chOff x="268200" y="3713040"/>
            <a:chExt cx="1387440" cy="317520"/>
          </a:xfrm>
        </p:grpSpPr>
      </p:grpSp>
      <p:grpSp>
        <p:nvGrpSpPr>
          <p:cNvPr id="207" name="Group 23"/>
          <p:cNvGrpSpPr/>
          <p:nvPr/>
        </p:nvGrpSpPr>
        <p:grpSpPr>
          <a:xfrm>
            <a:off x="271440" y="4622760"/>
            <a:ext cx="1387440" cy="317520"/>
            <a:chOff x="271440" y="4622760"/>
            <a:chExt cx="1387440" cy="317520"/>
          </a:xfrm>
        </p:grpSpPr>
      </p:grpSp>
      <p:grpSp>
        <p:nvGrpSpPr>
          <p:cNvPr id="208" name="Group 30"/>
          <p:cNvGrpSpPr/>
          <p:nvPr/>
        </p:nvGrpSpPr>
        <p:grpSpPr>
          <a:xfrm>
            <a:off x="268200" y="5532480"/>
            <a:ext cx="1387440" cy="317520"/>
            <a:chOff x="268200" y="5532480"/>
            <a:chExt cx="1387440" cy="317520"/>
          </a:xfrm>
        </p:grpSpPr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2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2:29:34Z</dcterms:created>
  <dc:creator>Larry Fowler</dc:creator>
  <dc:description/>
  <dc:language>en-US</dc:language>
  <cp:lastModifiedBy>Pamella Scott</cp:lastModifiedBy>
  <dcterms:modified xsi:type="dcterms:W3CDTF">2012-09-05T18:23:16Z</dcterms:modified>
  <cp:revision>67</cp:revision>
  <dc:subject/>
  <dc:title>The Pattern of Teaching Children</dc:title>
</cp:coreProperties>
</file>